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45783-6B2F-460D-8BD5-4AD2CC3D8B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A99-2F40-4431-86E0-9D69E718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2BE-ED9F-4971-A397-66A083C9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E93-2FB4-45AD-A231-9C239F70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3DD-9811-48A9-8DC2-96647DF3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08B-5A5A-424A-B733-89915B2E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5FC-D42C-4B0C-8798-2502599C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48E-4016-46E7-A3C4-BF11C0CB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5BF-BFAE-43F8-8AD6-EFCAE3AA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830-794D-45C1-81FC-39297E50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09DD-7239-44CA-A19A-89A26452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CA6-D200-4C75-85EB-5B5DFDD4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0BD-73C5-4E0F-B002-C4ADE9F8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82917-1806-41E9-AAAB-CC82F50BC8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ank Gothic Medium"/>
              </a:rPr>
              <a:t>The Freshman Academy</a:t>
            </a:r>
            <a:br>
              <a:rPr sz="4400"/>
            </a:br>
            <a:r>
              <a:rPr b="0" lang="en-GB" sz="3300" spc="-1" strike="noStrike">
                <a:solidFill>
                  <a:srgbClr val="000000"/>
                </a:solidFill>
                <a:latin typeface="Bank Gothic Medium"/>
              </a:rPr>
              <a:t>A Presentation by Zach Longyea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eneral I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learning communities intended to meet the needs of al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to address a myriad of issues schools face (To name a few..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an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iplin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29920" y="685800"/>
            <a:ext cx="90723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 eerily vag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igu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potent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Benefi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371600"/>
            <a:ext cx="9072360" cy="58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model for students that incorporates and streamlines Special Ed. and Regular 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 focused common plann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ailur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s a smaller population within a larger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s and improves student/par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s a successful model of t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terogeneously groups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s cross-curricular lessons and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es al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s students from the rest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Benefit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ably, this is vague and intendedly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other benef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reates an opportunity for all of the philosophies we have discussed to thrive and exis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Deterrents?  A Logistical Nightmar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ease think about where this could fail to laun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bout this idea stands out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could it go w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Needs For Implement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emonstrated need for a restructuring of the curr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upportiv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upportive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upportive schoo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understanding of the chang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unified visi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Challenges to Implementation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new and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will draw resources an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edules will have to be adjusted for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28296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cheduling could become unwiel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un independently from the rest of th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t an ascribed model.  The term is used loo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will take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Practical Elemen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has the best interest of the students as it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eating a team of educators creates a strong entity to ensure student success.  Students know who they can go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eshmen will not get lost in the proverbial shuff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it addresses many of the issues, that means less time is spent by administration man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tructure is self-reg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is stream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faculty is involved in the creation of their own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on planning time i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achers maximize their time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s a model tha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Practical Elemen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an arena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essional Learning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96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TI, NWEA, Writing Prom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l, meaningful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858960" indent="0" algn="ctr">
              <a:lnSpc>
                <a:spcPct val="96000"/>
              </a:lnSpc>
              <a:buNone/>
              <a:tabLst>
                <a:tab algn="l" pos="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545760"/>
                <a:tab algn="l" pos="100029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 was not able to find information about the program as a whole not working.  Why do you think that is?  If it has a high success rate, wouldn't everyone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ally, students are broken up heterogeneously.  Is this preventing students from standing out or getting the services they ne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ould Special Education services work?  Would a Special Education teacher be part of the t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ould remediation (Read 180, intensive math programs, etc.) promote heterogeneit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Hist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reshman Academy was first mentioned around 1995 and 1996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 New Freshman Experie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Macala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does not seem to have a first root or origi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can we measure the success of this progr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we going to trade relationship building and support for content and curricul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29920" y="1942920"/>
            <a:ext cx="9072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justify adding a fourth year to the middle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this create too much iso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ill it be perceived by the other faculty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it draw too much from the rest of the organ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dur="indefinite" fill="hold">
                      <p:stCondLst>
                        <p:cond delay="indefinite"/>
                      </p:stCondLst>
                      <p:childTnLst>
                        <p:par>
                          <p:cTn id="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be careful when reforming our entire school...I know.  This is not really a question—it is more of a statement and a w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shman Academies place a strong emphasis on the faculty team leading.  With autonomy like this, where else could this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could this possibly be regul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we really addressing the needs of our students, or are we addressing the need for a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make sure the goal i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7840" y="1600200"/>
            <a:ext cx="907236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lark, C., et. al., Freshman Academies on a Shoestring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incipal Leadership (Middle School Ed.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. 7 no. 7 (March 2007) p. 41, 43, 4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lland, H., et. al., Where everybody knows your name [freshman academy to help ninth-grader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ke a smoother transition from middle school to high school]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hi Delta Kapp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v. 83 no. 4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December 2001) p. 294-3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ulk, B. M. Concerns About Ninth-Grade Students' Poor Academic Performance: One School'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ction Plan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merican Secondary Educat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v. 31 no. 2 (Spring 2003) p. 8-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cala, W. F. A New Freshman Experience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incipal Leadership (High School Ed.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v. 2 no. 6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February 2002) p. 27-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chlechty, P. C. (May 14, 1997).  Common Misunderstandings.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ducation Week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printed with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ermission fro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venting Better Schools: An Action Plan for Educational Refor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by Phillip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. Schlechty. Copyright 1997 Jossey-Bass Inc., Publishers.  Retriev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www.edweek.org/ew/articles/1997/05/14/33schlec.h16.html?r=83115410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Reason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9920" y="1639800"/>
            <a:ext cx="9072360" cy="6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The transition between middle and high school is diffic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Physically and emotionally cha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setting with different expectations and experi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Generally they are moving from a schooling model that is supportive and nurturing to one that is designed to usher students into adult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Academics are going to be challe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Young teenagers are immersed with older  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Reason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Freshman Academy recreates a teaming model designed to facilitate and support the transitioning student's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provides another network of support that benefits all students involved with the Acade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Why Creat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ools that have created successful Freshman Academies have done so because they faced obstacles that were impedi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Common Factor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ilur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sentee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iplin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student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Create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455480"/>
            <a:ext cx="9072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 me dip into my Progressivist mind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have seen the factors that lead into the creation and implementation of a Freshman Academ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briefly (and somewhat idealistically) outline a model you think could work.  (Remember that we are dealing with a perfect educational world where everything works out how we want it to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Please take 5 minutes to complete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Anything to Shar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143000"/>
            <a:ext cx="907236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id you come up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Elements of a Freshman Academ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Please remember that every model is different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 of core teachers with common plann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ission/vision created by members of th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ulty that is committed to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upportiv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odified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